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18.wmf" ContentType="image/x-wmf"/>
  <Override PartName="/ppt/media/applause.wav" ContentType="audio/x-wav"/>
  <Override PartName="/ppt/media/image10.png" ContentType="image/png"/>
  <Override PartName="/ppt/media/breeze.wav" ContentType="audio/x-wav"/>
  <Override PartName="/ppt/media/image20.gif" ContentType="image/gif"/>
  <Override PartName="/ppt/media/image17.wmf" ContentType="image/x-wmf"/>
  <Override PartName="/ppt/media/image15.png" ContentType="image/png"/>
  <Override PartName="/ppt/media/image4.gif" ContentType="image/gif"/>
  <Override PartName="/ppt/media/image12.wmf" ContentType="image/x-wmf"/>
  <Override PartName="/ppt/media/image1.gif" ContentType="image/gif"/>
  <Override PartName="/ppt/media/image13.wmf" ContentType="image/x-wmf"/>
  <Override PartName="/ppt/media/image2.gif" ContentType="image/gif"/>
  <Override PartName="/ppt/media/image14.wmf" ContentType="image/x-wmf"/>
  <Override PartName="/ppt/media/image6.png" ContentType="image/png"/>
  <Override PartName="/ppt/media/bomb.wav" ContentType="audio/x-wav"/>
  <Override PartName="/ppt/media/image3.wmf" ContentType="image/x-wmf"/>
  <Override PartName="/ppt/media/image5.gif" ContentType="image/gi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C96-A638-47BA-9DC5-9A922D9D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471-8AB8-4B1A-85C1-71285440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5BA-0214-479A-8E97-D6D20C6F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EBF-92D0-4048-BEFE-889EE290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BA3-B20C-42B6-A164-8B4DFC46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D99-58DE-42E7-B31B-BA95E8B8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7F4-6519-437D-AC33-128C029A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64B-B987-4B93-A56E-A2E42CDB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882-B667-4950-829A-DA08686A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167-1051-4D60-9002-56D0E9AF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434-F522-478B-BC0A-23952FE5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984-EDF6-4380-A6F9-D7F304A2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63E7-1768-4AF3-9CDE-CB6278C77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8.xml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096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Cause / Eff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nna Bu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en Acres 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AG00298_"/>
          <p:cNvPicPr/>
          <p:nvPr/>
        </p:nvPicPr>
        <p:blipFill>
          <a:blip r:embed="rId1"/>
          <a:stretch/>
        </p:blipFill>
        <p:spPr>
          <a:xfrm>
            <a:off x="2590920" y="0"/>
            <a:ext cx="40878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33520" y="3808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boy knew th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o he raised his h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>
            <a:hlinkClick r:id="rId2" action="ppaction://hlinksldjump"/>
          </p:cNvPr>
          <p:cNvSpPr/>
          <p:nvPr/>
        </p:nvSpPr>
        <p:spPr>
          <a:xfrm>
            <a:off x="838080" y="5410080"/>
            <a:ext cx="1981440" cy="914400"/>
          </a:xfrm>
          <a:custGeom>
            <a:avLst/>
            <a:gdLst>
              <a:gd name="textAreaLeft" fmla="*/ 59040 w 1981440"/>
              <a:gd name="textAreaRight" fmla="*/ 1922400 w 1981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>
            <a:hlinkClick r:id="rId3" action="ppaction://hlinksldjump"/>
          </p:cNvPr>
          <p:cNvSpPr/>
          <p:nvPr/>
        </p:nvSpPr>
        <p:spPr>
          <a:xfrm>
            <a:off x="6248520" y="541008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066680" y="5638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6629400" y="5562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609480" y="380880"/>
            <a:ext cx="8077320" cy="914400"/>
          </a:xfrm>
          <a:prstGeom prst="rect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D19575_"/>
          <p:cNvPicPr/>
          <p:nvPr/>
        </p:nvPicPr>
        <p:blipFill>
          <a:blip r:embed="rId1"/>
          <a:stretch/>
        </p:blipFill>
        <p:spPr>
          <a:xfrm>
            <a:off x="1523880" y="1447920"/>
            <a:ext cx="6129360" cy="4108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28600" y="0"/>
            <a:ext cx="8534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When the child was bore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he tapped his fing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rId2" action="ppaction://hlinksldjump"/>
          </p:cNvPr>
          <p:cNvSpPr/>
          <p:nvPr/>
        </p:nvSpPr>
        <p:spPr>
          <a:xfrm>
            <a:off x="2133720" y="5638680"/>
            <a:ext cx="1904760" cy="914400"/>
          </a:xfrm>
          <a:custGeom>
            <a:avLst/>
            <a:gdLst>
              <a:gd name="textAreaLeft" fmla="*/ 59040 w 1904760"/>
              <a:gd name="textAreaRight" fmla="*/ 1845720 w 1904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85" h="21600">
                <a:moveTo>
                  <a:pt x="0" y="0"/>
                </a:moveTo>
                <a:lnTo>
                  <a:pt x="44985" y="0"/>
                </a:lnTo>
                <a:lnTo>
                  <a:pt x="44985" y="21600"/>
                </a:lnTo>
                <a:lnTo>
                  <a:pt x="0" y="21600"/>
                </a:lnTo>
                <a:close/>
              </a:path>
              <a:path fill="lightenLess" w="44985" h="21600">
                <a:moveTo>
                  <a:pt x="0" y="0"/>
                </a:moveTo>
                <a:lnTo>
                  <a:pt x="44985" y="0"/>
                </a:lnTo>
                <a:lnTo>
                  <a:pt x="43585" y="1400"/>
                </a:lnTo>
                <a:lnTo>
                  <a:pt x="1400" y="1400"/>
                </a:lnTo>
                <a:close/>
              </a:path>
              <a:path fill="darken" w="44985" h="21600">
                <a:moveTo>
                  <a:pt x="44985" y="0"/>
                </a:moveTo>
                <a:lnTo>
                  <a:pt x="44985" y="21600"/>
                </a:lnTo>
                <a:lnTo>
                  <a:pt x="43585" y="20200"/>
                </a:lnTo>
                <a:lnTo>
                  <a:pt x="43585" y="1400"/>
                </a:lnTo>
                <a:close/>
              </a:path>
              <a:path fill="darkenLess" w="44985" h="21600">
                <a:moveTo>
                  <a:pt x="44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85" y="20200"/>
                </a:lnTo>
                <a:close/>
              </a:path>
              <a:path fill="lighten" w="44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28600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563868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867280" y="5867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3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BD19554_"/>
          <p:cNvPicPr/>
          <p:nvPr/>
        </p:nvPicPr>
        <p:blipFill>
          <a:blip r:embed="rId1"/>
          <a:stretch/>
        </p:blipFill>
        <p:spPr>
          <a:xfrm>
            <a:off x="0" y="0"/>
            <a:ext cx="459756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724280" y="457200"/>
            <a:ext cx="4114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y wanted a drink because the sun was h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rId2" action="ppaction://hlinksldjump"/>
          </p:cNvPr>
          <p:cNvSpPr/>
          <p:nvPr/>
        </p:nvSpPr>
        <p:spPr>
          <a:xfrm>
            <a:off x="5181480" y="457200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34120" y="4724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>
            <a:hlinkClick r:id="" action="ppaction://hlinkshowjump?jump=nextslide"/>
          </p:cNvPr>
          <p:cNvSpPr/>
          <p:nvPr/>
        </p:nvSpPr>
        <p:spPr>
          <a:xfrm>
            <a:off x="7010280" y="4572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7086600" y="472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5181480" y="457200"/>
            <a:ext cx="3124440" cy="2057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685800" y="388620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685800" y="38862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2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AutoShape 3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j0122189[1]"/>
          <p:cNvPicPr/>
          <p:nvPr/>
        </p:nvPicPr>
        <p:blipFill>
          <a:blip r:embed="rId1"/>
          <a:stretch/>
        </p:blipFill>
        <p:spPr>
          <a:xfrm>
            <a:off x="1447920" y="1219320"/>
            <a:ext cx="6553080" cy="44942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457200" y="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2120" y="106668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kid fe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371600" y="5867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because of the wa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>
            <a:hlinkClick r:id="rId2" action="ppaction://hlinksldjump"/>
          </p:cNvPr>
          <p:cNvSpPr/>
          <p:nvPr/>
        </p:nvSpPr>
        <p:spPr>
          <a:xfrm>
            <a:off x="914400" y="11430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1839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789">
                <a:moveTo>
                  <a:pt x="11905" y="17876"/>
                </a:moveTo>
                <a:lnTo>
                  <a:pt x="11905" y="15917"/>
                </a:lnTo>
                <a:cubicBezTo>
                  <a:pt x="11905" y="15091"/>
                  <a:pt x="12236" y="14394"/>
                  <a:pt x="12837" y="14394"/>
                </a:cubicBezTo>
                <a:cubicBezTo>
                  <a:pt x="13968" y="14394"/>
                  <a:pt x="14865" y="13028"/>
                  <a:pt x="14865" y="11444"/>
                </a:cubicBezTo>
                <a:cubicBezTo>
                  <a:pt x="14865" y="9129"/>
                  <a:pt x="13011" y="7388"/>
                  <a:pt x="10800" y="7388"/>
                </a:cubicBezTo>
                <a:cubicBezTo>
                  <a:pt x="8589" y="7388"/>
                  <a:pt x="6918" y="9129"/>
                  <a:pt x="6918" y="11444"/>
                </a:cubicBezTo>
                <a:lnTo>
                  <a:pt x="8772" y="11444"/>
                </a:lnTo>
                <a:cubicBezTo>
                  <a:pt x="8772" y="10304"/>
                  <a:pt x="9695" y="9416"/>
                  <a:pt x="10800" y="9416"/>
                </a:cubicBezTo>
                <a:cubicBezTo>
                  <a:pt x="11905" y="9416"/>
                  <a:pt x="12837" y="10304"/>
                  <a:pt x="12837" y="11444"/>
                </a:cubicBezTo>
                <a:cubicBezTo>
                  <a:pt x="12837" y="12184"/>
                  <a:pt x="12367" y="12915"/>
                  <a:pt x="11905" y="12915"/>
                </a:cubicBezTo>
                <a:cubicBezTo>
                  <a:pt x="10800" y="12915"/>
                  <a:pt x="9695" y="14394"/>
                  <a:pt x="9695" y="15917"/>
                </a:cubicBezTo>
                <a:lnTo>
                  <a:pt x="9695" y="178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>
            <a:hlinkClick r:id="" action="ppaction://hlinkshowjump?jump=nextslide"/>
          </p:cNvPr>
          <p:cNvSpPr/>
          <p:nvPr/>
        </p:nvSpPr>
        <p:spPr>
          <a:xfrm>
            <a:off x="838080" y="5867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10800" y="184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806">
                <a:moveTo>
                  <a:pt x="11905" y="17884"/>
                </a:moveTo>
                <a:lnTo>
                  <a:pt x="11905" y="15926"/>
                </a:lnTo>
                <a:cubicBezTo>
                  <a:pt x="11905" y="15099"/>
                  <a:pt x="12236" y="14403"/>
                  <a:pt x="12837" y="14403"/>
                </a:cubicBezTo>
                <a:cubicBezTo>
                  <a:pt x="13968" y="14403"/>
                  <a:pt x="14865" y="13036"/>
                  <a:pt x="14865" y="11452"/>
                </a:cubicBezTo>
                <a:cubicBezTo>
                  <a:pt x="14865" y="9137"/>
                  <a:pt x="13011" y="7396"/>
                  <a:pt x="10800" y="7396"/>
                </a:cubicBezTo>
                <a:cubicBezTo>
                  <a:pt x="8589" y="7396"/>
                  <a:pt x="6918" y="9137"/>
                  <a:pt x="6918" y="11452"/>
                </a:cubicBezTo>
                <a:lnTo>
                  <a:pt x="8772" y="11452"/>
                </a:lnTo>
                <a:cubicBezTo>
                  <a:pt x="8772" y="10312"/>
                  <a:pt x="9695" y="9424"/>
                  <a:pt x="10800" y="9424"/>
                </a:cubicBezTo>
                <a:cubicBezTo>
                  <a:pt x="11905" y="9424"/>
                  <a:pt x="12837" y="10312"/>
                  <a:pt x="12837" y="11452"/>
                </a:cubicBezTo>
                <a:cubicBezTo>
                  <a:pt x="12837" y="12192"/>
                  <a:pt x="12367" y="12923"/>
                  <a:pt x="11905" y="12923"/>
                </a:cubicBezTo>
                <a:cubicBezTo>
                  <a:pt x="10800" y="12923"/>
                  <a:pt x="9695" y="14403"/>
                  <a:pt x="9695" y="15926"/>
                </a:cubicBezTo>
                <a:lnTo>
                  <a:pt x="9695" y="178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838080" y="3962520"/>
          <a:ext cx="6094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838080" y="39625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3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j0113916[1]"/>
          <p:cNvPicPr/>
          <p:nvPr/>
        </p:nvPicPr>
        <p:blipFill>
          <a:blip r:embed="rId1"/>
          <a:stretch/>
        </p:blipFill>
        <p:spPr>
          <a:xfrm>
            <a:off x="1143000" y="228600"/>
            <a:ext cx="7391520" cy="3951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969120" y="2365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371600" y="464832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he hurt her knee when she fell d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" action="ppaction://hlinkshowjump?jump=nextslide"/>
          </p:cNvPr>
          <p:cNvSpPr/>
          <p:nvPr/>
        </p:nvSpPr>
        <p:spPr>
          <a:xfrm>
            <a:off x="838080" y="4800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943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876" h="21600">
                <a:moveTo>
                  <a:pt x="20543" y="14281"/>
                </a:moveTo>
                <a:lnTo>
                  <a:pt x="20543" y="12323"/>
                </a:lnTo>
                <a:cubicBezTo>
                  <a:pt x="20543" y="11496"/>
                  <a:pt x="20874" y="10800"/>
                  <a:pt x="21475" y="10800"/>
                </a:cubicBezTo>
                <a:cubicBezTo>
                  <a:pt x="22606" y="10800"/>
                  <a:pt x="23503" y="9434"/>
                  <a:pt x="23503" y="7849"/>
                </a:cubicBezTo>
                <a:cubicBezTo>
                  <a:pt x="23503" y="5534"/>
                  <a:pt x="21649" y="3794"/>
                  <a:pt x="19438" y="3794"/>
                </a:cubicBezTo>
                <a:cubicBezTo>
                  <a:pt x="17227" y="3794"/>
                  <a:pt x="15556" y="5534"/>
                  <a:pt x="15556" y="7849"/>
                </a:cubicBezTo>
                <a:lnTo>
                  <a:pt x="17410" y="7849"/>
                </a:lnTo>
                <a:cubicBezTo>
                  <a:pt x="17410" y="6709"/>
                  <a:pt x="18333" y="5821"/>
                  <a:pt x="19438" y="5821"/>
                </a:cubicBezTo>
                <a:cubicBezTo>
                  <a:pt x="20543" y="5821"/>
                  <a:pt x="21475" y="6709"/>
                  <a:pt x="21475" y="7849"/>
                </a:cubicBezTo>
                <a:cubicBezTo>
                  <a:pt x="21475" y="8589"/>
                  <a:pt x="21005" y="9320"/>
                  <a:pt x="20543" y="9320"/>
                </a:cubicBezTo>
                <a:cubicBezTo>
                  <a:pt x="19438" y="9320"/>
                  <a:pt x="18333" y="10800"/>
                  <a:pt x="18333" y="12323"/>
                </a:cubicBezTo>
                <a:lnTo>
                  <a:pt x="1833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2" action="ppaction://hlinksldjump"/>
          </p:cNvPr>
          <p:cNvSpPr/>
          <p:nvPr/>
        </p:nvSpPr>
        <p:spPr>
          <a:xfrm>
            <a:off x="838080" y="55627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943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876" h="21600">
                <a:moveTo>
                  <a:pt x="20543" y="14281"/>
                </a:moveTo>
                <a:lnTo>
                  <a:pt x="20543" y="12323"/>
                </a:lnTo>
                <a:cubicBezTo>
                  <a:pt x="20543" y="11496"/>
                  <a:pt x="20874" y="10800"/>
                  <a:pt x="21475" y="10800"/>
                </a:cubicBezTo>
                <a:cubicBezTo>
                  <a:pt x="22606" y="10800"/>
                  <a:pt x="23503" y="9434"/>
                  <a:pt x="23503" y="7849"/>
                </a:cubicBezTo>
                <a:cubicBezTo>
                  <a:pt x="23503" y="5534"/>
                  <a:pt x="21649" y="3794"/>
                  <a:pt x="19438" y="3794"/>
                </a:cubicBezTo>
                <a:cubicBezTo>
                  <a:pt x="17227" y="3794"/>
                  <a:pt x="15556" y="5534"/>
                  <a:pt x="15556" y="7849"/>
                </a:cubicBezTo>
                <a:lnTo>
                  <a:pt x="17410" y="7849"/>
                </a:lnTo>
                <a:cubicBezTo>
                  <a:pt x="17410" y="6709"/>
                  <a:pt x="18333" y="5821"/>
                  <a:pt x="19438" y="5821"/>
                </a:cubicBezTo>
                <a:cubicBezTo>
                  <a:pt x="20543" y="5821"/>
                  <a:pt x="21475" y="6709"/>
                  <a:pt x="21475" y="7849"/>
                </a:cubicBezTo>
                <a:cubicBezTo>
                  <a:pt x="21475" y="8589"/>
                  <a:pt x="21005" y="9320"/>
                  <a:pt x="20543" y="9320"/>
                </a:cubicBezTo>
                <a:cubicBezTo>
                  <a:pt x="19438" y="9320"/>
                  <a:pt x="18333" y="10800"/>
                  <a:pt x="18333" y="12323"/>
                </a:cubicBezTo>
                <a:lnTo>
                  <a:pt x="1833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3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209680" y="6094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Cause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2286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ff"/>
                </a:solidFill>
                <a:latin typeface="Arial"/>
              </a:rPr>
              <a:t>what makes something happe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j0122155[1]"/>
          <p:cNvPicPr/>
          <p:nvPr/>
        </p:nvPicPr>
        <p:blipFill>
          <a:blip r:embed="rId1"/>
          <a:stretch/>
        </p:blipFill>
        <p:spPr>
          <a:xfrm>
            <a:off x="2438280" y="304920"/>
            <a:ext cx="4453200" cy="47242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740520" y="4651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523880" y="51814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 grabbed his head when he started to fal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>
            <a:hlinkClick r:id="" action="ppaction://hlinkshowjump?jump=nextslide"/>
          </p:cNvPr>
          <p:cNvSpPr/>
          <p:nvPr/>
        </p:nvSpPr>
        <p:spPr>
          <a:xfrm>
            <a:off x="609480" y="54100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727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4540" h="21600">
                <a:moveTo>
                  <a:pt x="18375" y="14281"/>
                </a:moveTo>
                <a:lnTo>
                  <a:pt x="18375" y="12323"/>
                </a:lnTo>
                <a:cubicBezTo>
                  <a:pt x="18375" y="11496"/>
                  <a:pt x="18706" y="10800"/>
                  <a:pt x="19306" y="10800"/>
                </a:cubicBezTo>
                <a:cubicBezTo>
                  <a:pt x="20438" y="10800"/>
                  <a:pt x="21334" y="9434"/>
                  <a:pt x="21334" y="7849"/>
                </a:cubicBezTo>
                <a:cubicBezTo>
                  <a:pt x="21334" y="5534"/>
                  <a:pt x="19481" y="3794"/>
                  <a:pt x="17270" y="3794"/>
                </a:cubicBezTo>
                <a:cubicBezTo>
                  <a:pt x="15059" y="3794"/>
                  <a:pt x="13388" y="5534"/>
                  <a:pt x="13388" y="7849"/>
                </a:cubicBezTo>
                <a:lnTo>
                  <a:pt x="15242" y="7849"/>
                </a:lnTo>
                <a:cubicBezTo>
                  <a:pt x="15242" y="6709"/>
                  <a:pt x="16164" y="5821"/>
                  <a:pt x="17270" y="5821"/>
                </a:cubicBezTo>
                <a:cubicBezTo>
                  <a:pt x="18375" y="5821"/>
                  <a:pt x="19306" y="6709"/>
                  <a:pt x="19306" y="7849"/>
                </a:cubicBezTo>
                <a:cubicBezTo>
                  <a:pt x="19306" y="8589"/>
                  <a:pt x="18836" y="9320"/>
                  <a:pt x="18375" y="9320"/>
                </a:cubicBezTo>
                <a:cubicBezTo>
                  <a:pt x="17270" y="9320"/>
                  <a:pt x="16164" y="10800"/>
                  <a:pt x="16164" y="12323"/>
                </a:cubicBezTo>
                <a:lnTo>
                  <a:pt x="1616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>
            <a:hlinkClick r:id="rId2" action="ppaction://hlinksldjump"/>
          </p:cNvPr>
          <p:cNvSpPr/>
          <p:nvPr/>
        </p:nvSpPr>
        <p:spPr>
          <a:xfrm>
            <a:off x="609480" y="60958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727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4540" h="21600">
                <a:moveTo>
                  <a:pt x="18375" y="14281"/>
                </a:moveTo>
                <a:lnTo>
                  <a:pt x="18375" y="12323"/>
                </a:lnTo>
                <a:cubicBezTo>
                  <a:pt x="18375" y="11496"/>
                  <a:pt x="18706" y="10800"/>
                  <a:pt x="19306" y="10800"/>
                </a:cubicBezTo>
                <a:cubicBezTo>
                  <a:pt x="20438" y="10800"/>
                  <a:pt x="21334" y="9434"/>
                  <a:pt x="21334" y="7849"/>
                </a:cubicBezTo>
                <a:cubicBezTo>
                  <a:pt x="21334" y="5534"/>
                  <a:pt x="19481" y="3794"/>
                  <a:pt x="17270" y="3794"/>
                </a:cubicBezTo>
                <a:cubicBezTo>
                  <a:pt x="15059" y="3794"/>
                  <a:pt x="13388" y="5534"/>
                  <a:pt x="13388" y="7849"/>
                </a:cubicBezTo>
                <a:lnTo>
                  <a:pt x="15242" y="7849"/>
                </a:lnTo>
                <a:cubicBezTo>
                  <a:pt x="15242" y="6709"/>
                  <a:pt x="16164" y="5821"/>
                  <a:pt x="17270" y="5821"/>
                </a:cubicBezTo>
                <a:cubicBezTo>
                  <a:pt x="18375" y="5821"/>
                  <a:pt x="19306" y="6709"/>
                  <a:pt x="19306" y="7849"/>
                </a:cubicBezTo>
                <a:cubicBezTo>
                  <a:pt x="19306" y="8589"/>
                  <a:pt x="18836" y="9320"/>
                  <a:pt x="18375" y="9320"/>
                </a:cubicBezTo>
                <a:cubicBezTo>
                  <a:pt x="17270" y="9320"/>
                  <a:pt x="16164" y="10800"/>
                  <a:pt x="16164" y="12323"/>
                </a:cubicBezTo>
                <a:lnTo>
                  <a:pt x="1616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AutoShape 3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j0120189[1]"/>
          <p:cNvPicPr/>
          <p:nvPr/>
        </p:nvPicPr>
        <p:blipFill>
          <a:blip r:embed="rId1"/>
          <a:stretch/>
        </p:blipFill>
        <p:spPr>
          <a:xfrm>
            <a:off x="3886200" y="380880"/>
            <a:ext cx="4379760" cy="4419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995400" y="51768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286000" y="4724280"/>
            <a:ext cx="6019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 screamed w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 flew up in the 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>
            <a:hlinkClick r:id="rId2" action="ppaction://hlinksldjump"/>
          </p:cNvPr>
          <p:cNvSpPr/>
          <p:nvPr/>
        </p:nvSpPr>
        <p:spPr>
          <a:xfrm>
            <a:off x="1295280" y="4876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704" h="21600">
                <a:moveTo>
                  <a:pt x="13458" y="14281"/>
                </a:moveTo>
                <a:lnTo>
                  <a:pt x="13458" y="12323"/>
                </a:lnTo>
                <a:cubicBezTo>
                  <a:pt x="13458" y="11496"/>
                  <a:pt x="13788" y="10800"/>
                  <a:pt x="14389" y="10800"/>
                </a:cubicBezTo>
                <a:cubicBezTo>
                  <a:pt x="15520" y="10800"/>
                  <a:pt x="16417" y="9434"/>
                  <a:pt x="16417" y="7849"/>
                </a:cubicBezTo>
                <a:cubicBezTo>
                  <a:pt x="16417" y="5534"/>
                  <a:pt x="14563" y="3794"/>
                  <a:pt x="12352" y="3794"/>
                </a:cubicBezTo>
                <a:cubicBezTo>
                  <a:pt x="10141" y="3794"/>
                  <a:pt x="8470" y="5534"/>
                  <a:pt x="8470" y="7849"/>
                </a:cubicBezTo>
                <a:lnTo>
                  <a:pt x="10324" y="7849"/>
                </a:lnTo>
                <a:cubicBezTo>
                  <a:pt x="10324" y="6709"/>
                  <a:pt x="11247" y="5821"/>
                  <a:pt x="12352" y="5821"/>
                </a:cubicBezTo>
                <a:cubicBezTo>
                  <a:pt x="13458" y="5821"/>
                  <a:pt x="14389" y="6709"/>
                  <a:pt x="14389" y="7849"/>
                </a:cubicBezTo>
                <a:cubicBezTo>
                  <a:pt x="14389" y="8589"/>
                  <a:pt x="13919" y="9320"/>
                  <a:pt x="13458" y="9320"/>
                </a:cubicBezTo>
                <a:cubicBezTo>
                  <a:pt x="12352" y="9320"/>
                  <a:pt x="11247" y="10800"/>
                  <a:pt x="11247" y="12323"/>
                </a:cubicBezTo>
                <a:lnTo>
                  <a:pt x="1124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>
            <a:hlinkClick r:id="" action="ppaction://hlinkshowjump?jump=nextslide"/>
          </p:cNvPr>
          <p:cNvSpPr/>
          <p:nvPr/>
        </p:nvSpPr>
        <p:spPr>
          <a:xfrm>
            <a:off x="1295280" y="5791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704" h="21600">
                <a:moveTo>
                  <a:pt x="13458" y="14281"/>
                </a:moveTo>
                <a:lnTo>
                  <a:pt x="13458" y="12323"/>
                </a:lnTo>
                <a:cubicBezTo>
                  <a:pt x="13458" y="11496"/>
                  <a:pt x="13788" y="10800"/>
                  <a:pt x="14389" y="10800"/>
                </a:cubicBezTo>
                <a:cubicBezTo>
                  <a:pt x="15520" y="10800"/>
                  <a:pt x="16417" y="9434"/>
                  <a:pt x="16417" y="7849"/>
                </a:cubicBezTo>
                <a:cubicBezTo>
                  <a:pt x="16417" y="5534"/>
                  <a:pt x="14563" y="3794"/>
                  <a:pt x="12352" y="3794"/>
                </a:cubicBezTo>
                <a:cubicBezTo>
                  <a:pt x="10141" y="3794"/>
                  <a:pt x="8470" y="5534"/>
                  <a:pt x="8470" y="7849"/>
                </a:cubicBezTo>
                <a:lnTo>
                  <a:pt x="10324" y="7849"/>
                </a:lnTo>
                <a:cubicBezTo>
                  <a:pt x="10324" y="6709"/>
                  <a:pt x="11247" y="5821"/>
                  <a:pt x="12352" y="5821"/>
                </a:cubicBezTo>
                <a:cubicBezTo>
                  <a:pt x="13458" y="5821"/>
                  <a:pt x="14389" y="6709"/>
                  <a:pt x="14389" y="7849"/>
                </a:cubicBezTo>
                <a:cubicBezTo>
                  <a:pt x="14389" y="8589"/>
                  <a:pt x="13919" y="9320"/>
                  <a:pt x="13458" y="9320"/>
                </a:cubicBezTo>
                <a:cubicBezTo>
                  <a:pt x="12352" y="9320"/>
                  <a:pt x="11247" y="10800"/>
                  <a:pt x="11247" y="12323"/>
                </a:cubicBezTo>
                <a:lnTo>
                  <a:pt x="1124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pe01644a[1]"/>
          <p:cNvPicPr/>
          <p:nvPr/>
        </p:nvPicPr>
        <p:blipFill>
          <a:blip r:embed="rId1"/>
          <a:stretch/>
        </p:blipFill>
        <p:spPr>
          <a:xfrm>
            <a:off x="3124080" y="990720"/>
            <a:ext cx="4648320" cy="37544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917280" y="44136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981080" y="4572000"/>
            <a:ext cx="7162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e was late for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o he r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>
            <a:hlinkClick r:id="rId2" action="ppaction://hlinksldjump"/>
          </p:cNvPr>
          <p:cNvSpPr/>
          <p:nvPr/>
        </p:nvSpPr>
        <p:spPr>
          <a:xfrm>
            <a:off x="914400" y="47242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849" h="21600">
                <a:moveTo>
                  <a:pt x="16530" y="14281"/>
                </a:moveTo>
                <a:lnTo>
                  <a:pt x="16530" y="12323"/>
                </a:lnTo>
                <a:cubicBezTo>
                  <a:pt x="16530" y="11496"/>
                  <a:pt x="16861" y="10800"/>
                  <a:pt x="17461" y="10800"/>
                </a:cubicBezTo>
                <a:cubicBezTo>
                  <a:pt x="18593" y="10800"/>
                  <a:pt x="19489" y="9434"/>
                  <a:pt x="19489" y="7849"/>
                </a:cubicBezTo>
                <a:cubicBezTo>
                  <a:pt x="19489" y="5534"/>
                  <a:pt x="17635" y="3794"/>
                  <a:pt x="15424" y="3794"/>
                </a:cubicBezTo>
                <a:cubicBezTo>
                  <a:pt x="13214" y="3794"/>
                  <a:pt x="11543" y="5534"/>
                  <a:pt x="11543" y="7849"/>
                </a:cubicBezTo>
                <a:lnTo>
                  <a:pt x="13396" y="7849"/>
                </a:lnTo>
                <a:cubicBezTo>
                  <a:pt x="13396" y="6709"/>
                  <a:pt x="14319" y="5821"/>
                  <a:pt x="15424" y="5821"/>
                </a:cubicBezTo>
                <a:cubicBezTo>
                  <a:pt x="16530" y="5821"/>
                  <a:pt x="17461" y="6709"/>
                  <a:pt x="17461" y="7849"/>
                </a:cubicBezTo>
                <a:cubicBezTo>
                  <a:pt x="17461" y="8589"/>
                  <a:pt x="16991" y="9320"/>
                  <a:pt x="16530" y="9320"/>
                </a:cubicBezTo>
                <a:cubicBezTo>
                  <a:pt x="15424" y="9320"/>
                  <a:pt x="14319" y="10800"/>
                  <a:pt x="14319" y="12323"/>
                </a:cubicBezTo>
                <a:lnTo>
                  <a:pt x="1431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>
            <a:hlinkClick r:id="" action="ppaction://hlinkshowjump?jump=nextslide"/>
          </p:cNvPr>
          <p:cNvSpPr/>
          <p:nvPr/>
        </p:nvSpPr>
        <p:spPr>
          <a:xfrm>
            <a:off x="914400" y="56386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849" h="21600">
                <a:moveTo>
                  <a:pt x="16530" y="14281"/>
                </a:moveTo>
                <a:lnTo>
                  <a:pt x="16530" y="12323"/>
                </a:lnTo>
                <a:cubicBezTo>
                  <a:pt x="16530" y="11496"/>
                  <a:pt x="16861" y="10800"/>
                  <a:pt x="17461" y="10800"/>
                </a:cubicBezTo>
                <a:cubicBezTo>
                  <a:pt x="18593" y="10800"/>
                  <a:pt x="19489" y="9434"/>
                  <a:pt x="19489" y="7849"/>
                </a:cubicBezTo>
                <a:cubicBezTo>
                  <a:pt x="19489" y="5534"/>
                  <a:pt x="17635" y="3794"/>
                  <a:pt x="15424" y="3794"/>
                </a:cubicBezTo>
                <a:cubicBezTo>
                  <a:pt x="13214" y="3794"/>
                  <a:pt x="11543" y="5534"/>
                  <a:pt x="11543" y="7849"/>
                </a:cubicBezTo>
                <a:lnTo>
                  <a:pt x="13396" y="7849"/>
                </a:lnTo>
                <a:cubicBezTo>
                  <a:pt x="13396" y="6709"/>
                  <a:pt x="14319" y="5821"/>
                  <a:pt x="15424" y="5821"/>
                </a:cubicBezTo>
                <a:cubicBezTo>
                  <a:pt x="16530" y="5821"/>
                  <a:pt x="17461" y="6709"/>
                  <a:pt x="17461" y="7849"/>
                </a:cubicBezTo>
                <a:cubicBezTo>
                  <a:pt x="17461" y="8589"/>
                  <a:pt x="16991" y="9320"/>
                  <a:pt x="16530" y="9320"/>
                </a:cubicBezTo>
                <a:cubicBezTo>
                  <a:pt x="15424" y="9320"/>
                  <a:pt x="14319" y="10800"/>
                  <a:pt x="14319" y="12323"/>
                </a:cubicBezTo>
                <a:lnTo>
                  <a:pt x="1431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j0113914[1]"/>
          <p:cNvPicPr/>
          <p:nvPr/>
        </p:nvPicPr>
        <p:blipFill>
          <a:blip r:embed="rId1"/>
          <a:stretch/>
        </p:blipFill>
        <p:spPr>
          <a:xfrm>
            <a:off x="1676520" y="2724120"/>
            <a:ext cx="5638680" cy="41338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1071360" y="28908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2096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girl c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410080" y="220968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when she fell d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1295280" y="403848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405" h="21600">
                <a:moveTo>
                  <a:pt x="14308" y="14281"/>
                </a:moveTo>
                <a:lnTo>
                  <a:pt x="14308" y="12323"/>
                </a:lnTo>
                <a:cubicBezTo>
                  <a:pt x="14308" y="11496"/>
                  <a:pt x="14639" y="10800"/>
                  <a:pt x="15239" y="10800"/>
                </a:cubicBezTo>
                <a:cubicBezTo>
                  <a:pt x="16371" y="10800"/>
                  <a:pt x="17267" y="9434"/>
                  <a:pt x="17267" y="7849"/>
                </a:cubicBezTo>
                <a:cubicBezTo>
                  <a:pt x="17267" y="5534"/>
                  <a:pt x="15413" y="3794"/>
                  <a:pt x="13203" y="3794"/>
                </a:cubicBezTo>
                <a:cubicBezTo>
                  <a:pt x="10992" y="3794"/>
                  <a:pt x="9321" y="5534"/>
                  <a:pt x="9321" y="7849"/>
                </a:cubicBezTo>
                <a:lnTo>
                  <a:pt x="11175" y="7849"/>
                </a:lnTo>
                <a:cubicBezTo>
                  <a:pt x="11175" y="6709"/>
                  <a:pt x="12097" y="5821"/>
                  <a:pt x="13203" y="5821"/>
                </a:cubicBezTo>
                <a:cubicBezTo>
                  <a:pt x="14308" y="5821"/>
                  <a:pt x="15239" y="6709"/>
                  <a:pt x="15239" y="7849"/>
                </a:cubicBezTo>
                <a:cubicBezTo>
                  <a:pt x="15239" y="8589"/>
                  <a:pt x="14769" y="9320"/>
                  <a:pt x="14308" y="9320"/>
                </a:cubicBezTo>
                <a:cubicBezTo>
                  <a:pt x="13203" y="9320"/>
                  <a:pt x="12097" y="10800"/>
                  <a:pt x="12097" y="12323"/>
                </a:cubicBezTo>
                <a:lnTo>
                  <a:pt x="1209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">
            <a:hlinkClick r:id="" action="ppaction://hlinkshowjump?jump=nextslide"/>
          </p:cNvPr>
          <p:cNvSpPr/>
          <p:nvPr/>
        </p:nvSpPr>
        <p:spPr>
          <a:xfrm>
            <a:off x="7315200" y="40384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5" descr="SO00299_[1]"/>
          <p:cNvPicPr/>
          <p:nvPr/>
        </p:nvPicPr>
        <p:blipFill>
          <a:blip r:embed="rId1"/>
          <a:stretch/>
        </p:blipFill>
        <p:spPr>
          <a:xfrm>
            <a:off x="3429000" y="609480"/>
            <a:ext cx="4560840" cy="3043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6"/>
          <p:cNvSpPr/>
          <p:nvPr/>
        </p:nvSpPr>
        <p:spPr>
          <a:xfrm>
            <a:off x="917280" y="36504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2057400" y="3962520"/>
            <a:ext cx="6858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t was harder to 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when the little guy hitchhik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8">
            <a:hlinkClick r:id="" action="ppaction://hlinkshowjump?jump=nextslide"/>
          </p:cNvPr>
          <p:cNvSpPr/>
          <p:nvPr/>
        </p:nvSpPr>
        <p:spPr>
          <a:xfrm>
            <a:off x="685800" y="4038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312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6259" h="21600">
                <a:moveTo>
                  <a:pt x="24235" y="14281"/>
                </a:moveTo>
                <a:lnTo>
                  <a:pt x="24235" y="12323"/>
                </a:lnTo>
                <a:cubicBezTo>
                  <a:pt x="24235" y="11496"/>
                  <a:pt x="24565" y="10800"/>
                  <a:pt x="25166" y="10800"/>
                </a:cubicBezTo>
                <a:cubicBezTo>
                  <a:pt x="26297" y="10800"/>
                  <a:pt x="27194" y="9434"/>
                  <a:pt x="27194" y="7849"/>
                </a:cubicBezTo>
                <a:cubicBezTo>
                  <a:pt x="27194" y="5534"/>
                  <a:pt x="25340" y="3794"/>
                  <a:pt x="23129" y="3794"/>
                </a:cubicBezTo>
                <a:cubicBezTo>
                  <a:pt x="20919" y="3794"/>
                  <a:pt x="19247" y="5534"/>
                  <a:pt x="19247" y="7849"/>
                </a:cubicBezTo>
                <a:lnTo>
                  <a:pt x="21101" y="7849"/>
                </a:lnTo>
                <a:cubicBezTo>
                  <a:pt x="21101" y="6709"/>
                  <a:pt x="22024" y="5821"/>
                  <a:pt x="23129" y="5821"/>
                </a:cubicBezTo>
                <a:cubicBezTo>
                  <a:pt x="24235" y="5821"/>
                  <a:pt x="25166" y="6709"/>
                  <a:pt x="25166" y="7849"/>
                </a:cubicBezTo>
                <a:cubicBezTo>
                  <a:pt x="25166" y="8589"/>
                  <a:pt x="24696" y="9320"/>
                  <a:pt x="24235" y="9320"/>
                </a:cubicBezTo>
                <a:cubicBezTo>
                  <a:pt x="23129" y="9320"/>
                  <a:pt x="22024" y="10800"/>
                  <a:pt x="22024" y="12323"/>
                </a:cubicBezTo>
                <a:lnTo>
                  <a:pt x="2202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9"/>
          <p:cNvSpPr/>
          <p:nvPr/>
        </p:nvSpPr>
        <p:spPr>
          <a:xfrm>
            <a:off x="685800" y="5181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312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6259" h="21600">
                <a:moveTo>
                  <a:pt x="24235" y="14281"/>
                </a:moveTo>
                <a:lnTo>
                  <a:pt x="24235" y="12323"/>
                </a:lnTo>
                <a:cubicBezTo>
                  <a:pt x="24235" y="11496"/>
                  <a:pt x="24565" y="10800"/>
                  <a:pt x="25166" y="10800"/>
                </a:cubicBezTo>
                <a:cubicBezTo>
                  <a:pt x="26297" y="10800"/>
                  <a:pt x="27194" y="9434"/>
                  <a:pt x="27194" y="7849"/>
                </a:cubicBezTo>
                <a:cubicBezTo>
                  <a:pt x="27194" y="5534"/>
                  <a:pt x="25340" y="3794"/>
                  <a:pt x="23129" y="3794"/>
                </a:cubicBezTo>
                <a:cubicBezTo>
                  <a:pt x="20919" y="3794"/>
                  <a:pt x="19247" y="5534"/>
                  <a:pt x="19247" y="7849"/>
                </a:cubicBezTo>
                <a:lnTo>
                  <a:pt x="21101" y="7849"/>
                </a:lnTo>
                <a:cubicBezTo>
                  <a:pt x="21101" y="6709"/>
                  <a:pt x="22024" y="5821"/>
                  <a:pt x="23129" y="5821"/>
                </a:cubicBezTo>
                <a:cubicBezTo>
                  <a:pt x="24235" y="5821"/>
                  <a:pt x="25166" y="6709"/>
                  <a:pt x="25166" y="7849"/>
                </a:cubicBezTo>
                <a:cubicBezTo>
                  <a:pt x="25166" y="8589"/>
                  <a:pt x="24696" y="9320"/>
                  <a:pt x="24235" y="9320"/>
                </a:cubicBezTo>
                <a:cubicBezTo>
                  <a:pt x="23129" y="9320"/>
                  <a:pt x="22024" y="10800"/>
                  <a:pt x="22024" y="12323"/>
                </a:cubicBezTo>
                <a:lnTo>
                  <a:pt x="2202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-609480" y="2743200"/>
          <a:ext cx="30456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27432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0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212200" y="914400"/>
            <a:ext cx="47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Effect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066680" y="2819520"/>
            <a:ext cx="701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447920" y="2362320"/>
            <a:ext cx="6705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Arial"/>
              </a:rPr>
              <a:t>what happens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SO01921_[1]"/>
          <p:cNvPicPr/>
          <p:nvPr/>
        </p:nvPicPr>
        <p:blipFill>
          <a:blip r:embed="rId1"/>
          <a:stretch/>
        </p:blipFill>
        <p:spPr>
          <a:xfrm>
            <a:off x="2743200" y="762120"/>
            <a:ext cx="4959360" cy="3578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995400" y="3650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981080" y="449568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ice was slippery and the man fe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>
            <a:hlinkClick r:id="" action="ppaction://hlinkshowjump?jump=nextslide"/>
          </p:cNvPr>
          <p:cNvSpPr/>
          <p:nvPr/>
        </p:nvSpPr>
        <p:spPr>
          <a:xfrm>
            <a:off x="838080" y="45720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21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185" h="21600">
                <a:moveTo>
                  <a:pt x="22698" y="14281"/>
                </a:moveTo>
                <a:lnTo>
                  <a:pt x="22698" y="12323"/>
                </a:lnTo>
                <a:cubicBezTo>
                  <a:pt x="22698" y="11496"/>
                  <a:pt x="23029" y="10800"/>
                  <a:pt x="23629" y="10800"/>
                </a:cubicBezTo>
                <a:cubicBezTo>
                  <a:pt x="24761" y="10800"/>
                  <a:pt x="25657" y="9434"/>
                  <a:pt x="25657" y="7849"/>
                </a:cubicBezTo>
                <a:cubicBezTo>
                  <a:pt x="25657" y="5534"/>
                  <a:pt x="23803" y="3794"/>
                  <a:pt x="21593" y="3794"/>
                </a:cubicBezTo>
                <a:cubicBezTo>
                  <a:pt x="19382" y="3794"/>
                  <a:pt x="17711" y="5534"/>
                  <a:pt x="17711" y="7849"/>
                </a:cubicBezTo>
                <a:lnTo>
                  <a:pt x="19565" y="7849"/>
                </a:lnTo>
                <a:cubicBezTo>
                  <a:pt x="19565" y="6709"/>
                  <a:pt x="20487" y="5821"/>
                  <a:pt x="21593" y="5821"/>
                </a:cubicBezTo>
                <a:cubicBezTo>
                  <a:pt x="22698" y="5821"/>
                  <a:pt x="23629" y="6709"/>
                  <a:pt x="23629" y="7849"/>
                </a:cubicBezTo>
                <a:cubicBezTo>
                  <a:pt x="23629" y="8589"/>
                  <a:pt x="23159" y="9320"/>
                  <a:pt x="22698" y="9320"/>
                </a:cubicBezTo>
                <a:cubicBezTo>
                  <a:pt x="21593" y="9320"/>
                  <a:pt x="20487" y="10800"/>
                  <a:pt x="20487" y="12323"/>
                </a:cubicBezTo>
                <a:lnTo>
                  <a:pt x="2048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838080" y="5257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21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185" h="21600">
                <a:moveTo>
                  <a:pt x="22698" y="14281"/>
                </a:moveTo>
                <a:lnTo>
                  <a:pt x="22698" y="12323"/>
                </a:lnTo>
                <a:cubicBezTo>
                  <a:pt x="22698" y="11496"/>
                  <a:pt x="23029" y="10800"/>
                  <a:pt x="23629" y="10800"/>
                </a:cubicBezTo>
                <a:cubicBezTo>
                  <a:pt x="24761" y="10800"/>
                  <a:pt x="25657" y="9434"/>
                  <a:pt x="25657" y="7849"/>
                </a:cubicBezTo>
                <a:cubicBezTo>
                  <a:pt x="25657" y="5534"/>
                  <a:pt x="23803" y="3794"/>
                  <a:pt x="21593" y="3794"/>
                </a:cubicBezTo>
                <a:cubicBezTo>
                  <a:pt x="19382" y="3794"/>
                  <a:pt x="17711" y="5534"/>
                  <a:pt x="17711" y="7849"/>
                </a:cubicBezTo>
                <a:lnTo>
                  <a:pt x="19565" y="7849"/>
                </a:lnTo>
                <a:cubicBezTo>
                  <a:pt x="19565" y="6709"/>
                  <a:pt x="20487" y="5821"/>
                  <a:pt x="21593" y="5821"/>
                </a:cubicBezTo>
                <a:cubicBezTo>
                  <a:pt x="22698" y="5821"/>
                  <a:pt x="23629" y="6709"/>
                  <a:pt x="23629" y="7849"/>
                </a:cubicBezTo>
                <a:cubicBezTo>
                  <a:pt x="23629" y="8589"/>
                  <a:pt x="23159" y="9320"/>
                  <a:pt x="22698" y="9320"/>
                </a:cubicBezTo>
                <a:cubicBezTo>
                  <a:pt x="21593" y="9320"/>
                  <a:pt x="20487" y="10800"/>
                  <a:pt x="20487" y="12323"/>
                </a:cubicBezTo>
                <a:lnTo>
                  <a:pt x="2048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609480" y="3276720"/>
          <a:ext cx="609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32767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1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PE07423_[1]"/>
          <p:cNvPicPr/>
          <p:nvPr/>
        </p:nvPicPr>
        <p:blipFill>
          <a:blip r:embed="rId1"/>
          <a:stretch/>
        </p:blipFill>
        <p:spPr>
          <a:xfrm>
            <a:off x="3886200" y="0"/>
            <a:ext cx="3632040" cy="48006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1197720" y="3888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90720" y="4724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e floated to the ground because of the parachu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>
            <a:hlinkClick r:id="" action="ppaction://hlinkshowjump?jump=nextslide"/>
          </p:cNvPr>
          <p:cNvSpPr/>
          <p:nvPr/>
        </p:nvSpPr>
        <p:spPr>
          <a:xfrm>
            <a:off x="304920" y="4724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61" h="21600">
                <a:moveTo>
                  <a:pt x="14986" y="14281"/>
                </a:moveTo>
                <a:lnTo>
                  <a:pt x="14986" y="12323"/>
                </a:lnTo>
                <a:cubicBezTo>
                  <a:pt x="14986" y="11496"/>
                  <a:pt x="15317" y="10800"/>
                  <a:pt x="15917" y="10800"/>
                </a:cubicBezTo>
                <a:cubicBezTo>
                  <a:pt x="17049" y="10800"/>
                  <a:pt x="17945" y="9434"/>
                  <a:pt x="17945" y="7849"/>
                </a:cubicBezTo>
                <a:cubicBezTo>
                  <a:pt x="17945" y="5534"/>
                  <a:pt x="16091" y="3794"/>
                  <a:pt x="13881" y="3794"/>
                </a:cubicBezTo>
                <a:cubicBezTo>
                  <a:pt x="11670" y="3794"/>
                  <a:pt x="9999" y="5534"/>
                  <a:pt x="9999" y="7849"/>
                </a:cubicBezTo>
                <a:lnTo>
                  <a:pt x="11853" y="7849"/>
                </a:lnTo>
                <a:cubicBezTo>
                  <a:pt x="11853" y="6709"/>
                  <a:pt x="12775" y="5821"/>
                  <a:pt x="13881" y="5821"/>
                </a:cubicBezTo>
                <a:cubicBezTo>
                  <a:pt x="14986" y="5821"/>
                  <a:pt x="15917" y="6709"/>
                  <a:pt x="15917" y="7849"/>
                </a:cubicBezTo>
                <a:cubicBezTo>
                  <a:pt x="15917" y="8589"/>
                  <a:pt x="15447" y="9320"/>
                  <a:pt x="14986" y="9320"/>
                </a:cubicBezTo>
                <a:cubicBezTo>
                  <a:pt x="13881" y="9320"/>
                  <a:pt x="12775" y="10800"/>
                  <a:pt x="12775" y="12323"/>
                </a:cubicBezTo>
                <a:lnTo>
                  <a:pt x="1277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30492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61" h="21600">
                <a:moveTo>
                  <a:pt x="14986" y="14281"/>
                </a:moveTo>
                <a:lnTo>
                  <a:pt x="14986" y="12323"/>
                </a:lnTo>
                <a:cubicBezTo>
                  <a:pt x="14986" y="11496"/>
                  <a:pt x="15317" y="10800"/>
                  <a:pt x="15917" y="10800"/>
                </a:cubicBezTo>
                <a:cubicBezTo>
                  <a:pt x="17049" y="10800"/>
                  <a:pt x="17945" y="9434"/>
                  <a:pt x="17945" y="7849"/>
                </a:cubicBezTo>
                <a:cubicBezTo>
                  <a:pt x="17945" y="5534"/>
                  <a:pt x="16091" y="3794"/>
                  <a:pt x="13881" y="3794"/>
                </a:cubicBezTo>
                <a:cubicBezTo>
                  <a:pt x="11670" y="3794"/>
                  <a:pt x="9999" y="5534"/>
                  <a:pt x="9999" y="7849"/>
                </a:cubicBezTo>
                <a:lnTo>
                  <a:pt x="11853" y="7849"/>
                </a:lnTo>
                <a:cubicBezTo>
                  <a:pt x="11853" y="6709"/>
                  <a:pt x="12775" y="5821"/>
                  <a:pt x="13881" y="5821"/>
                </a:cubicBezTo>
                <a:cubicBezTo>
                  <a:pt x="14986" y="5821"/>
                  <a:pt x="15917" y="6709"/>
                  <a:pt x="15917" y="7849"/>
                </a:cubicBezTo>
                <a:cubicBezTo>
                  <a:pt x="15917" y="8589"/>
                  <a:pt x="15447" y="9320"/>
                  <a:pt x="14986" y="9320"/>
                </a:cubicBezTo>
                <a:cubicBezTo>
                  <a:pt x="13881" y="9320"/>
                  <a:pt x="12775" y="10800"/>
                  <a:pt x="12775" y="12323"/>
                </a:cubicBezTo>
                <a:lnTo>
                  <a:pt x="1277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-380880" y="2666880"/>
          <a:ext cx="75960" cy="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2666880"/>
                    <a:ext cx="7596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34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AutoShape 3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AG00506_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2991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Arial"/>
              </a:rPr>
              <a:t>Write your own cause effect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0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4"/>
          <p:cNvSpPr txBox="1"/>
          <p:nvPr/>
        </p:nvSpPr>
        <p:spPr>
          <a:xfrm>
            <a:off x="380880" y="533520"/>
            <a:ext cx="82296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BYE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BD19566_"/>
          <p:cNvPicPr/>
          <p:nvPr/>
        </p:nvPicPr>
        <p:blipFill>
          <a:blip r:embed="rId1"/>
          <a:stretch/>
        </p:blipFill>
        <p:spPr>
          <a:xfrm>
            <a:off x="685800" y="457200"/>
            <a:ext cx="383220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029200" y="228600"/>
            <a:ext cx="358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little girl was sleepy, so she sat on her mother’s l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724280" y="48769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What is the cau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724280" y="51055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What is the effec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4724280" y="0"/>
            <a:ext cx="4114800" cy="1752480"/>
          </a:xfrm>
          <a:prstGeom prst="ellipse">
            <a:avLst/>
          </a:prstGeom>
          <a:noFill/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4495680" y="1523880"/>
            <a:ext cx="4648320" cy="3124440"/>
          </a:xfrm>
          <a:prstGeom prst="ellipse">
            <a:avLst/>
          </a:prstGeom>
          <a:noFill/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35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350"/>
                            </p:stCondLst>
                            <p:childTnLst>
                              <p:par>
                                <p:cTn id="16" nodeType="afterEffect" fill="hold" presetClass="entr" presetID="3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xit" presetID="52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D19562_"/>
          <p:cNvPicPr/>
          <p:nvPr/>
        </p:nvPicPr>
        <p:blipFill>
          <a:blip r:embed="rId1"/>
          <a:stretch/>
        </p:blipFill>
        <p:spPr>
          <a:xfrm>
            <a:off x="4546440" y="0"/>
            <a:ext cx="45975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28600" y="2895480"/>
            <a:ext cx="4114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The boy was hungr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so he planted</a:t>
            </a: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o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4800600" y="27432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Oval 7"/>
          <p:cNvSpPr/>
          <p:nvPr/>
        </p:nvSpPr>
        <p:spPr>
          <a:xfrm>
            <a:off x="0" y="2666880"/>
            <a:ext cx="4572000" cy="167652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4876920" y="4495680"/>
            <a:ext cx="4267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FFECT?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Oval 9"/>
          <p:cNvSpPr/>
          <p:nvPr/>
        </p:nvSpPr>
        <p:spPr>
          <a:xfrm>
            <a:off x="0" y="4419720"/>
            <a:ext cx="4495680" cy="16002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-914400" y="2971800"/>
          <a:ext cx="91440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14400" y="29718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-914400" y="487692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914400" y="487692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verb" presetID="0">
                                  <p:stCondLst>
                                    <p:cond delay="5000"/>
                                  </p:stCondLst>
                                  <p:childTnLst>
                                    <p:cmd type="call" cmd="">
                                      <p:cBhvr>
                                        <p:cTn id="107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verb" presetID="0">
                                  <p:stCondLst>
                                    <p:cond delay="5000"/>
                                  </p:stCondLst>
                                  <p:childTnLst>
                                    <p:cmd type="call" cmd="">
                                      <p:cBhvr>
                                        <p:cTn id="127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D19565_"/>
          <p:cNvPicPr/>
          <p:nvPr/>
        </p:nvPicPr>
        <p:blipFill>
          <a:blip r:embed="rId1"/>
          <a:stretch/>
        </p:blipFill>
        <p:spPr>
          <a:xfrm>
            <a:off x="2666880" y="0"/>
            <a:ext cx="3819600" cy="569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-609480" y="3048120"/>
          <a:ext cx="609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30481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0" y="160020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The baby laugh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553080" y="1676520"/>
            <a:ext cx="259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because she liked her to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304920" y="57150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FFECT?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WordArt 10"/>
          <p:cNvSpPr txBox="1"/>
          <p:nvPr/>
        </p:nvSpPr>
        <p:spPr>
          <a:xfrm>
            <a:off x="6172200" y="5791320"/>
            <a:ext cx="2666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0" y="1676520"/>
            <a:ext cx="2590920" cy="1371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6553080" y="1828800"/>
            <a:ext cx="2590920" cy="1905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600"/>
                            </p:stCondLst>
                            <p:childTnLst>
                              <p:par>
                                <p:cTn id="145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60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2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52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93 0.57569 C 0.06996 0.58241 0.09774 0.5794 0.1342 0.57801 C 0.14496 0.56898 0.15677 0.56273 0.16805 0.55509 C 0.17708 0.54861 0.18646 0.53727 0.19461 0.52963 C 0.19705 0.52731 0.19809 0.52338 0.20034 0.5206 C 0.21128 0.50579 0.22326 0.49167 0.2342 0.47708 C 0.25156 0.45393 0.27083 0.43426 0.29097 0.41505 C 0.29166 0.41435 0.30312 0.40301 0.30607 0.40139 C 0.31892 0.39444 0.33264 0.38935 0.34583 0.3831 C 0.35399 0.37893 0.36146 0.37431 0.37048 0.37176 C 0.38889 0.36042 0.37517 0.36736 0.41389 0.36227 C 0.41909 0.36157 0.4309 0.36018 0.4309 0.36042 C 0.43819 0.35764 0.44409 0.35324 0.45156 0.35093 C 0.4585 0.34884 0.46545 0.34768 0.47205 0.3463 C 0.47673 0.3419 0.48298 0.33935 0.48715 0.33472 C 0.49305 0.32917 0.49722 0.32268 0.50243 0.31643 C 0.50434 0.31435 0.5085 0.30972 0.5085 0.30995 C 0.52847 0.25995 0.50347 0.21921 0.48385 0.17893 C 0.47656 0.16528 0.46666 0.14282 0.45364 0.13542 C 0.421 0.1169 0.37691 0.12268 0.34392 0.12153 C 0.33125 0.12245 0.3184 0.12106 0.30607 0.12384 C 0.29271 0.12708 0.27552 0.16181 0.27014 0.17431 C 0.26961 0.17731 0.2684 0.18032 0.2684 0.18356 C 0.2684 0.21065 0.27343 0.2125 0.29288 0.22014 C 0.296 0.21968 0.3125 0.21806 0.31753 0.21551 C 0.33802 0.20579 0.34809 0.18819 0.36093 0.16736 C 0.36632 0.15856 0.37257 0.15116 0.37795 0.14236 C 0.38073 0.13796 0.38559 0.12847 0.38559 0.1287 C 0.38836 0.11435 0.39166 0.10093 0.39514 0.08704 C 0.396 0.07523 0.39652 0.05995 0.40069 0.04815 C 0.40503 0.03542 0.4151 0.02708 0.42326 0.01829 C 0.43889 0.00162 0.45659 -0.01505 0.47812 -0.0206 C 0.49722 -0.02569 0.50677 -0.02569 0.52725 -0.02755 C 0.54062 -0.02662 0.55399 -0.02801 0.56701 -0.02523 C 0.57534 -0.02338 0.56823 0.00162 0.56319 0.00694 C 0.53923 0.03333 0.52413 0.04028 0.49132 0.04583 C 0.41875 0.04468 0.35069 0.04537 0.27968 0.03889 C 0.27014 0.03518 0.26024 0.03356 0.25139 0.02755 C 0.23229 0.01458 0.26771 0.03657 0.2342 0.00903 C 0.21736 -0.00463 0.20694 -0.02847 0.19271 -0.04583 C 0.18211 -0.05857 0.1585 -0.07639 0.14357 -0.08032 C 0.13107 -0.08357 0.1184 -0.08472 0.10573 -0.08704 C 0.09618 -0.09074 0.08698 -0.09352 0.07743 -0.0963 C 0.0717 -0.0956 0.0658 -0.09514 0.06024 -0.09398 C 0.05277 -0.09236 0.04635 -0.08657 0.03958 -0.08241 C 0.02083 -0.07083 0.00781 -0.04815 0.00364 -0.02292 C 0.00295 -0.01806 3.33333E-006 -0.00602 3.33333E-006 3.7037E-007 E">
                                      <p:cBhvr>
                                        <p:cTn id="16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20"/>
                            </p:stCondLst>
                            <p:childTnLst>
                              <p:par>
                                <p:cTn id="164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2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1215 0.50393 C -0.11615 0.50208 -0.12014 0.50046 -0.12413 0.49861 C -0.12604 0.49768 -0.13004 0.49606 -0.13004 0.49606 C -0.14792 0.48101 -0.16632 0.46851 -0.18403 0.45324 C -0.19028 0.44791 -0.23316 0.4368 -0.2401 0.43472 C -0.26042 0.41666 -0.27448 0.39166 -0.28819 0.36527 C -0.30816 0.32708 -0.32465 0.29444 -0.3401 0.25324 C -0.34132 0.24699 -0.3441 0.2412 -0.3441 0.23472 C -0.3441 0.22662 -0.3441 0.21828 -0.34201 0.21064 C -0.33872 0.19745 -0.32031 0.19143 -0.31215 0.18935 C -0.25816 0.19282 -0.20885 0.19629 -0.15608 0.2081 C -0.13993 0.21875 -0.14028 0.21689 -0.13004 0.23726 C -0.12743 0.24259 -0.11806 0.24791 -0.11806 0.24791 C -0.10938 0.24699 -0.10035 0.24838 -0.09201 0.24537 C -0.08299 0.24213 -0.08872 0.21967 -0.09201 0.2081 C -0.09774 0.18773 -0.11476 0.18865 -0.12813 0.18402 C -0.18594 0.16365 -0.24497 0.15972 -0.30417 0.1493 C -0.32656 0.14537 -0.37222 0.14143 -0.37222 0.14143 C -0.38819 0.14236 -0.40417 0.14166 -0.42014 0.14398 C -0.42917 0.14537 -0.43438 0.17754 -0.43802 0.18402 C -0.44514 0.19676 -0.45191 0.21342 -0.46406 0.21875 C -0.47049 0.22152 -0.47743 0.22222 -0.48403 0.22407 C -0.51059 0.22199 -0.5283 0.2206 -0.55208 0.2081 C -0.56389 0.19166 -0.5559 0.16736 -0.5441 0.15463 C -0.53333 0.14282 -0.54358 0.14907 -0.53004 0.14398 C -0.52813 0.14328 -0.52205 0.14143 -0.52413 0.14143 C -0.52813 0.14143 -0.53229 0.14351 -0.53611 0.14398 C -0.54549 0.14513 -0.55469 0.1456 -0.56406 0.14676 C -0.5776 0.14838 -0.59063 0.15092 -0.60399 0.15208 C -0.61997 0.15347 -0.63611 0.1537 -0.65208 0.15463 C -0.75486 0.16643 -0.71354 0.16018 -0.77604 0.1706 C -0.77847 0.17199 -0.78958 0.17662 -0.79201 0.18125 C -0.79757 0.19166 -0.79861 0.20926 -0.8 0.22129 C -0.7974 0.24282 -0.79392 0.26643 -0.77604 0.27476 C -0.76701 0.27893 -0.75747 0.28009 -0.74809 0.28263 C -0.7026 0.27893 -0.64722 0.30301 -0.62813 0.24004 C -0.62986 0.19305 -0.62292 0.17407 -0.65399 0.1574 C -0.70938 0.16527 -0.71875 0.16782 -0.76615 0.19467 C -0.76944 0.2 -0.77344 0.20463 -0.77604 0.21064 C -0.78385 0.22801 -0.76979 0.24467 -0.76007 0.25324 C -0.7191 0.24745 -0.7599 0.25763 -0.73212 0.24004 C -0.72309 0.23426 -0.71337 0.23101 -0.70399 0.22662 C -0.6967 0.21689 -0.68576 0.21018 -0.68212 0.19722 C -0.67031 0.1537 -0.66771 0.15115 -0.6441 0.12268 C -0.64063 0.11851 -0.63837 0.11203 -0.63403 0.10926 C -0.62379 0.10277 -0.5783 0.09051 -0.57014 0.08796 C -0.51563 0.07083 -0.46094 0.05555 -0.40608 0.04004 C -0.37101 0.01643 -0.3184 0.01458 -0.27813 0.01064 C -0.27101 0.01157 -0.26319 0.01064 -0.25608 0.01342 C -0.23889 0.0199 -0.26354 0.02847 -0.2401 0.01597 C -0.23038 -0.00093 -0.22535 -0.01644 -0.22222 -0.03727 C -0.22483 -0.05556 -0.22882 -0.07037 -0.23229 -0.08797 C -0.23194 -0.09028 -0.23004 -0.12292 -0.22413 -0.13079 C -0.19809 -0.16551 -0.15972 -0.18218 -0.12413 -0.18936 C -0.11146 -0.18843 -0.09879 -0.18866 -0.08611 -0.18658 C -0.07326 -0.18449 -0.05521 -0.1588 -0.04601 -0.14676 C -0.04462 -0.13936 -0.04149 -0.13264 -0.0401 -0.12524 C -0.03872 -0.11737 -0.03872 -0.10926 -0.03802 -0.10139 C -0.03715 -0.08172 -0.04063 -0.06019 -0.03403 -0.0426 C -0.02951 -0.03033 -0.02431 -0.02292 -0.01615 -0.01598 C -0.00955 -0.01042 -0.00382 -0.00973 3.88889E-006 -3.7037E-007 E">
                                      <p:cBhvr>
                                        <p:cTn id="17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G00488_"/>
          <p:cNvPicPr/>
          <p:nvPr/>
        </p:nvPicPr>
        <p:blipFill>
          <a:blip r:embed="rId1"/>
          <a:stretch/>
        </p:blipFill>
        <p:spPr>
          <a:xfrm>
            <a:off x="1828800" y="0"/>
            <a:ext cx="5715000" cy="3794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09480" y="3657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cc"/>
                </a:solidFill>
                <a:latin typeface="Arial"/>
              </a:rPr>
              <a:t>He broke a class rule, so he had to write sentences on the bo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90720" y="3733920"/>
            <a:ext cx="4572000" cy="5331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>
            <a:hlinkClick r:id="rId2" action="ppaction://hlinksldjump"/>
          </p:cNvPr>
          <p:cNvSpPr/>
          <p:nvPr/>
        </p:nvSpPr>
        <p:spPr>
          <a:xfrm>
            <a:off x="2133720" y="571500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>
            <a:hlinkClick r:id="rId3" action="ppaction://hlinksldjump"/>
          </p:cNvPr>
          <p:cNvSpPr/>
          <p:nvPr/>
        </p:nvSpPr>
        <p:spPr>
          <a:xfrm>
            <a:off x="5105520" y="571500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286000" y="5867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5257800" y="5791320"/>
            <a:ext cx="12193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1143000" y="51814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HICH PART OF THE SENTENCE IS BOX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-609480" y="2895480"/>
          <a:ext cx="38088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609480" y="28954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7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AutoShape 5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 rot="20288400">
            <a:off x="1143000" y="1143000"/>
            <a:ext cx="8381880" cy="31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SORRY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WRONG ANSWER...TRY AGAI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6" name="AutoShape 5">
            <a:hlinkClick r:id="" action="ppaction://hlinkshowjump?jump=previousslide"/>
          </p:cNvPr>
          <p:cNvSpPr/>
          <p:nvPr/>
        </p:nvSpPr>
        <p:spPr>
          <a:xfrm>
            <a:off x="3657600" y="5486400"/>
            <a:ext cx="2133720" cy="914400"/>
          </a:xfrm>
          <a:custGeom>
            <a:avLst/>
            <a:gdLst>
              <a:gd name="textAreaLeft" fmla="*/ 59040 w 2133720"/>
              <a:gd name="textAreaRight" fmla="*/ 2074680 w 2133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0391" h="21600">
                <a:moveTo>
                  <a:pt x="0" y="0"/>
                </a:moveTo>
                <a:lnTo>
                  <a:pt x="50391" y="0"/>
                </a:lnTo>
                <a:lnTo>
                  <a:pt x="50391" y="21600"/>
                </a:lnTo>
                <a:lnTo>
                  <a:pt x="0" y="21600"/>
                </a:lnTo>
                <a:close/>
              </a:path>
              <a:path fill="lightenLess" w="50391" h="21600">
                <a:moveTo>
                  <a:pt x="0" y="0"/>
                </a:moveTo>
                <a:lnTo>
                  <a:pt x="50391" y="0"/>
                </a:lnTo>
                <a:lnTo>
                  <a:pt x="48991" y="1400"/>
                </a:lnTo>
                <a:lnTo>
                  <a:pt x="1400" y="1400"/>
                </a:lnTo>
                <a:close/>
              </a:path>
              <a:path fill="darken" w="50391" h="21600">
                <a:moveTo>
                  <a:pt x="50391" y="0"/>
                </a:moveTo>
                <a:lnTo>
                  <a:pt x="50391" y="21600"/>
                </a:lnTo>
                <a:lnTo>
                  <a:pt x="48991" y="20200"/>
                </a:lnTo>
                <a:lnTo>
                  <a:pt x="48991" y="1400"/>
                </a:lnTo>
                <a:close/>
              </a:path>
              <a:path fill="darkenLess" w="50391" h="21600">
                <a:moveTo>
                  <a:pt x="50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91" y="20200"/>
                </a:lnTo>
                <a:close/>
              </a:path>
              <a:path fill="lighten" w="50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91" h="21600">
                <a:moveTo>
                  <a:pt x="18189" y="10800"/>
                </a:moveTo>
                <a:lnTo>
                  <a:pt x="32202" y="3794"/>
                </a:lnTo>
                <a:lnTo>
                  <a:pt x="322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9:10:10Z</dcterms:created>
  <dc:creator>Golden Acres</dc:creator>
  <dc:description/>
  <dc:language>en-US</dc:language>
  <cp:lastModifiedBy>teacher</cp:lastModifiedBy>
  <dcterms:modified xsi:type="dcterms:W3CDTF">2010-11-14T02:32:12Z</dcterms:modified>
  <cp:revision>17</cp:revision>
  <dc:subject/>
  <dc:title>Cause / Effect</dc:title>
</cp:coreProperties>
</file>